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7CB-47B4-4A91-8334-5E5015BB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68F-CAC1-4E0B-9BDA-BA8E0C49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587-5232-4D90-9857-FAAB2E3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EC-2E1C-4854-BE20-0371AD2A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2F8-8C56-4BEB-B65A-5AFFC864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E02-735A-42FC-9C9C-F6C6DBF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7B-51FE-466F-90A5-56B6DE4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1A0-CCB9-42AC-A29B-8B0C15CD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649-7C96-4C84-9E42-2D71D36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64D-9435-4FBD-BA5F-72DA943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36F-55B2-4473-A0CC-691A05B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A50-C880-46D9-83B8-E593E7A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95BE-E251-4954-BC85-CD9DD1C38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C:/Users/Steve/AppData/Local/Temp/webquest%20author%20detective%20task%20sheet.doc" TargetMode="Externa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C:/Users/Steve/AppData/Local/Temp/webquest%20rubric%20for%20biography%20poster.doc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5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7632720" y="5697360"/>
            <a:ext cx="1187280" cy="827280"/>
          </a:xfrm>
          <a:custGeom>
            <a:avLst/>
            <a:gdLst>
              <a:gd name="textAreaLeft" fmla="*/ 53640 w 1187280"/>
              <a:gd name="textAreaRight" fmla="*/ 1133640 w 11872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30995" h="21600">
                <a:moveTo>
                  <a:pt x="0" y="0"/>
                </a:moveTo>
                <a:lnTo>
                  <a:pt x="30995" y="0"/>
                </a:lnTo>
                <a:lnTo>
                  <a:pt x="30995" y="21600"/>
                </a:lnTo>
                <a:lnTo>
                  <a:pt x="0" y="21600"/>
                </a:lnTo>
                <a:close/>
              </a:path>
              <a:path fill="lightenLess" w="30995" h="21600">
                <a:moveTo>
                  <a:pt x="0" y="0"/>
                </a:moveTo>
                <a:lnTo>
                  <a:pt x="30995" y="0"/>
                </a:lnTo>
                <a:lnTo>
                  <a:pt x="29595" y="1400"/>
                </a:lnTo>
                <a:lnTo>
                  <a:pt x="1400" y="1400"/>
                </a:lnTo>
                <a:close/>
              </a:path>
              <a:path fill="darken" w="30995" h="21600">
                <a:moveTo>
                  <a:pt x="30995" y="0"/>
                </a:moveTo>
                <a:lnTo>
                  <a:pt x="30995" y="21600"/>
                </a:lnTo>
                <a:lnTo>
                  <a:pt x="29595" y="20200"/>
                </a:lnTo>
                <a:lnTo>
                  <a:pt x="29595" y="1400"/>
                </a:lnTo>
                <a:close/>
              </a:path>
              <a:path fill="darkenLess" w="30995" h="21600">
                <a:moveTo>
                  <a:pt x="30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5" y="20200"/>
                </a:lnTo>
                <a:close/>
              </a:path>
              <a:path fill="lighten" w="30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50920" y="368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'S BE </a:t>
            </a:r>
            <a:endParaRPr b="0" lang="en-US" sz="40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CTIVES</a:t>
            </a:r>
            <a:endParaRPr b="0" lang="en-US" sz="40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-541440" y="4292640"/>
            <a:ext cx="565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Web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rs.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harlesmont Ele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16720" y="5697360"/>
            <a:ext cx="1405080" cy="82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64000" y="5769000"/>
            <a:ext cx="20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ck on the book to be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128680" cy="21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187280" y="2313000"/>
            <a:ext cx="622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Author Detectives!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6058080"/>
            <a:ext cx="2413080" cy="539640"/>
          </a:xfrm>
          <a:prstGeom prst="leftArrow">
            <a:avLst>
              <a:gd name="adj1" fmla="val 50000"/>
              <a:gd name="adj2" fmla="val 11179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ggy Rat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Peggy Rathman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16000" y="6093000"/>
            <a:ext cx="2771640" cy="468000"/>
          </a:xfrm>
          <a:custGeom>
            <a:avLst/>
            <a:gdLst>
              <a:gd name="textAreaLeft" fmla="*/ 30240 w 2771640"/>
              <a:gd name="textAreaRight" fmla="*/ 2741400 w 277164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7840" h="21600">
                <a:moveTo>
                  <a:pt x="0" y="0"/>
                </a:moveTo>
                <a:lnTo>
                  <a:pt x="127840" y="0"/>
                </a:lnTo>
                <a:lnTo>
                  <a:pt x="127840" y="21600"/>
                </a:lnTo>
                <a:lnTo>
                  <a:pt x="0" y="21600"/>
                </a:lnTo>
                <a:close/>
              </a:path>
              <a:path fill="lightenLess" w="127840" h="21600">
                <a:moveTo>
                  <a:pt x="0" y="0"/>
                </a:moveTo>
                <a:lnTo>
                  <a:pt x="127840" y="0"/>
                </a:lnTo>
                <a:lnTo>
                  <a:pt x="126440" y="1400"/>
                </a:lnTo>
                <a:lnTo>
                  <a:pt x="1400" y="1400"/>
                </a:lnTo>
                <a:close/>
              </a:path>
              <a:path fill="darken" w="127840" h="21600">
                <a:moveTo>
                  <a:pt x="127840" y="0"/>
                </a:moveTo>
                <a:lnTo>
                  <a:pt x="127840" y="21600"/>
                </a:lnTo>
                <a:lnTo>
                  <a:pt x="126440" y="20200"/>
                </a:lnTo>
                <a:lnTo>
                  <a:pt x="126440" y="1400"/>
                </a:lnTo>
                <a:close/>
              </a:path>
              <a:path fill="darkenLess" w="127840" h="21600">
                <a:moveTo>
                  <a:pt x="127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440" y="20200"/>
                </a:lnTo>
                <a:close/>
              </a:path>
              <a:path fill="lighten" w="127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840" h="21600">
                <a:moveTo>
                  <a:pt x="56914" y="10800"/>
                </a:moveTo>
                <a:lnTo>
                  <a:pt x="70927" y="3794"/>
                </a:lnTo>
                <a:lnTo>
                  <a:pt x="709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6058080"/>
            <a:ext cx="2376360" cy="610920"/>
          </a:xfrm>
          <a:prstGeom prst="leftArrow">
            <a:avLst>
              <a:gd name="adj1" fmla="val 50000"/>
              <a:gd name="adj2" fmla="val 97245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ry S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Gary Soto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216000" y="6129360"/>
            <a:ext cx="2700360" cy="468360"/>
          </a:xfrm>
          <a:custGeom>
            <a:avLst/>
            <a:gdLst>
              <a:gd name="textAreaLeft" fmla="*/ 30240 w 2700360"/>
              <a:gd name="textAreaRight" fmla="*/ 2670120 w 2700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124457" h="21600">
                <a:moveTo>
                  <a:pt x="0" y="0"/>
                </a:moveTo>
                <a:lnTo>
                  <a:pt x="124457" y="0"/>
                </a:lnTo>
                <a:lnTo>
                  <a:pt x="124457" y="21600"/>
                </a:lnTo>
                <a:lnTo>
                  <a:pt x="0" y="21600"/>
                </a:lnTo>
                <a:close/>
              </a:path>
              <a:path fill="lightenLess" w="124457" h="21600">
                <a:moveTo>
                  <a:pt x="0" y="0"/>
                </a:moveTo>
                <a:lnTo>
                  <a:pt x="124457" y="0"/>
                </a:lnTo>
                <a:lnTo>
                  <a:pt x="123057" y="1400"/>
                </a:lnTo>
                <a:lnTo>
                  <a:pt x="1400" y="1400"/>
                </a:lnTo>
                <a:close/>
              </a:path>
              <a:path fill="darken" w="124457" h="21600">
                <a:moveTo>
                  <a:pt x="124457" y="0"/>
                </a:moveTo>
                <a:lnTo>
                  <a:pt x="124457" y="21600"/>
                </a:lnTo>
                <a:lnTo>
                  <a:pt x="123057" y="20200"/>
                </a:lnTo>
                <a:lnTo>
                  <a:pt x="123057" y="1400"/>
                </a:lnTo>
                <a:close/>
              </a:path>
              <a:path fill="darkenLess" w="124457" h="21600">
                <a:moveTo>
                  <a:pt x="12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57" y="20200"/>
                </a:lnTo>
                <a:close/>
              </a:path>
              <a:path fill="lighten" w="12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457" h="21600">
                <a:moveTo>
                  <a:pt x="55222" y="10800"/>
                </a:moveTo>
                <a:lnTo>
                  <a:pt x="69235" y="3794"/>
                </a:lnTo>
                <a:lnTo>
                  <a:pt x="6923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1640" y="5985000"/>
            <a:ext cx="865440" cy="57600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358920" y="5950080"/>
            <a:ext cx="1044360" cy="539640"/>
          </a:xfrm>
          <a:custGeom>
            <a:avLst/>
            <a:gdLst>
              <a:gd name="textAreaLeft" fmla="*/ 34920 w 1044360"/>
              <a:gd name="textAreaRight" fmla="*/ 1009440 w 1044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89" h="21600">
                <a:moveTo>
                  <a:pt x="0" y="0"/>
                </a:moveTo>
                <a:lnTo>
                  <a:pt x="41789" y="0"/>
                </a:lnTo>
                <a:lnTo>
                  <a:pt x="41789" y="21600"/>
                </a:lnTo>
                <a:lnTo>
                  <a:pt x="0" y="21600"/>
                </a:lnTo>
                <a:close/>
              </a:path>
              <a:path fill="lightenLess" w="41789" h="21600">
                <a:moveTo>
                  <a:pt x="0" y="0"/>
                </a:moveTo>
                <a:lnTo>
                  <a:pt x="41789" y="0"/>
                </a:lnTo>
                <a:lnTo>
                  <a:pt x="40389" y="1400"/>
                </a:lnTo>
                <a:lnTo>
                  <a:pt x="1400" y="1400"/>
                </a:lnTo>
                <a:close/>
              </a:path>
              <a:path fill="darken" w="41789" h="21600">
                <a:moveTo>
                  <a:pt x="41789" y="0"/>
                </a:moveTo>
                <a:lnTo>
                  <a:pt x="41789" y="21600"/>
                </a:lnTo>
                <a:lnTo>
                  <a:pt x="40389" y="20200"/>
                </a:lnTo>
                <a:lnTo>
                  <a:pt x="40389" y="1400"/>
                </a:lnTo>
                <a:close/>
              </a:path>
              <a:path fill="darkenLess" w="41789" h="21600">
                <a:moveTo>
                  <a:pt x="4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89" y="20200"/>
                </a:lnTo>
                <a:close/>
              </a:path>
              <a:path fill="lighten" w="4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89" h="21600">
                <a:moveTo>
                  <a:pt x="17396" y="10800"/>
                </a:moveTo>
                <a:lnTo>
                  <a:pt x="27901" y="3794"/>
                </a:lnTo>
                <a:lnTo>
                  <a:pt x="27901" y="17806"/>
                </a:lnTo>
                <a:close/>
              </a:path>
              <a:path fill="darken" w="41789" h="21600">
                <a:moveTo>
                  <a:pt x="13888" y="3794"/>
                </a:moveTo>
                <a:lnTo>
                  <a:pt x="15550" y="3794"/>
                </a:lnTo>
                <a:lnTo>
                  <a:pt x="15550" y="17806"/>
                </a:lnTo>
                <a:lnTo>
                  <a:pt x="138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16000" y="1989000"/>
            <a:ext cx="93600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6920" y="3968280"/>
            <a:ext cx="5651640" cy="19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ey always been wr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re their favorite school su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they have child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y like to do for f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05000"/>
            <a:ext cx="9144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read many great stories in second grade this 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remember these charac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Dragon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Officer Buckle and Glori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Henry and Mu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 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Maya and Julius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Ricky (Big Bushy Musta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do you know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th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o created these character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00360" y="260280"/>
            <a:ext cx="52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INTRODUCTION</a:t>
            </a:r>
            <a:endParaRPr b="0" lang="en-US" sz="32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5624640"/>
            <a:ext cx="1044720" cy="99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48360" y="4076640"/>
            <a:ext cx="1981440" cy="1368360"/>
          </a:xfrm>
          <a:prstGeom prst="wedgeRoundRectCallout">
            <a:avLst>
              <a:gd name="adj1" fmla="val -28125"/>
              <a:gd name="adj2" fmla="val 76333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on my book to begin your quest for answ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227640" y="6058080"/>
            <a:ext cx="1008360" cy="539640"/>
          </a:xfrm>
          <a:custGeom>
            <a:avLst/>
            <a:gdLst>
              <a:gd name="textAreaLeft" fmla="*/ 34920 w 1008360"/>
              <a:gd name="textAreaRight" fmla="*/ 973440 w 1008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0349" h="21600">
                <a:moveTo>
                  <a:pt x="0" y="0"/>
                </a:moveTo>
                <a:lnTo>
                  <a:pt x="40349" y="0"/>
                </a:lnTo>
                <a:lnTo>
                  <a:pt x="40349" y="21600"/>
                </a:lnTo>
                <a:lnTo>
                  <a:pt x="0" y="21600"/>
                </a:lnTo>
                <a:close/>
              </a:path>
              <a:path fill="lightenLess" w="40349" h="21600">
                <a:moveTo>
                  <a:pt x="0" y="0"/>
                </a:moveTo>
                <a:lnTo>
                  <a:pt x="40349" y="0"/>
                </a:lnTo>
                <a:lnTo>
                  <a:pt x="38949" y="1400"/>
                </a:lnTo>
                <a:lnTo>
                  <a:pt x="1400" y="1400"/>
                </a:lnTo>
                <a:close/>
              </a:path>
              <a:path fill="darken" w="40349" h="21600">
                <a:moveTo>
                  <a:pt x="40349" y="0"/>
                </a:moveTo>
                <a:lnTo>
                  <a:pt x="40349" y="21600"/>
                </a:lnTo>
                <a:lnTo>
                  <a:pt x="38949" y="20200"/>
                </a:lnTo>
                <a:lnTo>
                  <a:pt x="38949" y="1400"/>
                </a:lnTo>
                <a:close/>
              </a:path>
              <a:path fill="darkenLess" w="40349" h="21600">
                <a:moveTo>
                  <a:pt x="40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49" y="20200"/>
                </a:lnTo>
                <a:close/>
              </a:path>
              <a:path fill="lighten" w="40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49" h="21600">
                <a:moveTo>
                  <a:pt x="13168" y="3794"/>
                </a:moveTo>
                <a:lnTo>
                  <a:pt x="27181" y="10800"/>
                </a:lnTo>
                <a:lnTo>
                  <a:pt x="131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96360" y="6021360"/>
            <a:ext cx="973080" cy="549360"/>
          </a:xfrm>
          <a:prstGeom prst="rightArrow">
            <a:avLst>
              <a:gd name="adj1" fmla="val 50000"/>
              <a:gd name="adj2" fmla="val 44282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6058080"/>
            <a:ext cx="1008000" cy="574560"/>
          </a:xfrm>
          <a:prstGeom prst="leftArrow">
            <a:avLst>
              <a:gd name="adj1" fmla="val 50000"/>
              <a:gd name="adj2" fmla="val 4386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818400">
            <a:off x="1426680" y="375840"/>
            <a:ext cx="552600" cy="6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640" y="1089000"/>
            <a:ext cx="8388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been selected as a detective to research the life of a children’s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will use the research links provided as well as books from the library to collect important and interesting facts about one of these children’s 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Dav Pilkey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Dragon Gets By)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Angela Johnson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Jul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Cynthia Rylant 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Henry and Mu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Peggy Rathman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Officer Buckle and Gl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Gary Soto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Big Bushy Musta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, you will use the facts you collected to create a poster to share with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818400">
            <a:off x="7295760" y="375840"/>
            <a:ext cx="552600" cy="612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451640" y="6129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35280" y="29700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SK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87280" y="6165720"/>
            <a:ext cx="1116000" cy="397080"/>
          </a:xfrm>
          <a:custGeom>
            <a:avLst/>
            <a:gdLst>
              <a:gd name="textAreaLeft" fmla="*/ 25560 w 1116000"/>
              <a:gd name="textAreaRight" fmla="*/ 1090440 w 111600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60672" h="21600">
                <a:moveTo>
                  <a:pt x="0" y="0"/>
                </a:moveTo>
                <a:lnTo>
                  <a:pt x="60672" y="0"/>
                </a:lnTo>
                <a:lnTo>
                  <a:pt x="60672" y="21600"/>
                </a:lnTo>
                <a:lnTo>
                  <a:pt x="0" y="21600"/>
                </a:lnTo>
                <a:close/>
              </a:path>
              <a:path fill="lightenLess" w="60672" h="21600">
                <a:moveTo>
                  <a:pt x="0" y="0"/>
                </a:moveTo>
                <a:lnTo>
                  <a:pt x="60672" y="0"/>
                </a:lnTo>
                <a:lnTo>
                  <a:pt x="59272" y="1400"/>
                </a:lnTo>
                <a:lnTo>
                  <a:pt x="1400" y="1400"/>
                </a:lnTo>
                <a:close/>
              </a:path>
              <a:path fill="darken" w="60672" h="21600">
                <a:moveTo>
                  <a:pt x="60672" y="0"/>
                </a:moveTo>
                <a:lnTo>
                  <a:pt x="60672" y="21600"/>
                </a:lnTo>
                <a:lnTo>
                  <a:pt x="59272" y="20200"/>
                </a:lnTo>
                <a:lnTo>
                  <a:pt x="59272" y="1400"/>
                </a:lnTo>
                <a:close/>
              </a:path>
              <a:path fill="darkenLess" w="60672" h="21600">
                <a:moveTo>
                  <a:pt x="60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72" y="20200"/>
                </a:lnTo>
                <a:close/>
              </a:path>
              <a:path fill="lighten" w="60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72" h="21600">
                <a:moveTo>
                  <a:pt x="23329" y="10800"/>
                </a:moveTo>
                <a:lnTo>
                  <a:pt x="37342" y="3794"/>
                </a:lnTo>
                <a:lnTo>
                  <a:pt x="373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84360" y="4041720"/>
            <a:ext cx="2627280" cy="397080"/>
          </a:xfrm>
          <a:custGeom>
            <a:avLst/>
            <a:gdLst>
              <a:gd name="textAreaLeft" fmla="*/ 25560 w 2627280"/>
              <a:gd name="textAreaRight" fmla="*/ 2601720 w 262728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142807" h="21600">
                <a:moveTo>
                  <a:pt x="0" y="0"/>
                </a:moveTo>
                <a:lnTo>
                  <a:pt x="142807" y="0"/>
                </a:lnTo>
                <a:lnTo>
                  <a:pt x="142807" y="21600"/>
                </a:lnTo>
                <a:lnTo>
                  <a:pt x="0" y="21600"/>
                </a:lnTo>
                <a:close/>
              </a:path>
              <a:path fill="lightenLess" w="142807" h="21600">
                <a:moveTo>
                  <a:pt x="0" y="0"/>
                </a:moveTo>
                <a:lnTo>
                  <a:pt x="142807" y="0"/>
                </a:lnTo>
                <a:lnTo>
                  <a:pt x="141407" y="1400"/>
                </a:lnTo>
                <a:lnTo>
                  <a:pt x="1400" y="1400"/>
                </a:lnTo>
                <a:close/>
              </a:path>
              <a:path fill="darken" w="142807" h="21600">
                <a:moveTo>
                  <a:pt x="142807" y="0"/>
                </a:moveTo>
                <a:lnTo>
                  <a:pt x="142807" y="21600"/>
                </a:lnTo>
                <a:lnTo>
                  <a:pt x="141407" y="20200"/>
                </a:lnTo>
                <a:lnTo>
                  <a:pt x="141407" y="1400"/>
                </a:lnTo>
                <a:close/>
              </a:path>
              <a:path fill="darkenLess" w="142807" h="21600">
                <a:moveTo>
                  <a:pt x="14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407" y="20200"/>
                </a:lnTo>
                <a:close/>
              </a:path>
              <a:path fill="lighten" w="14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2807" h="21600">
                <a:moveTo>
                  <a:pt x="64397" y="3794"/>
                </a:moveTo>
                <a:lnTo>
                  <a:pt x="78410" y="10800"/>
                </a:lnTo>
                <a:lnTo>
                  <a:pt x="643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616572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2720" y="616572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225360"/>
            <a:ext cx="464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CES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6165720"/>
            <a:ext cx="161892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616572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6121440" y="613080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936720" y="6165720"/>
            <a:ext cx="1549440" cy="360360"/>
          </a:xfrm>
          <a:custGeom>
            <a:avLst/>
            <a:gdLst>
              <a:gd name="textAreaLeft" fmla="*/ 23040 w 1549440"/>
              <a:gd name="textAreaRight" fmla="*/ 1526400 w 15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2802" h="21600">
                <a:moveTo>
                  <a:pt x="0" y="0"/>
                </a:moveTo>
                <a:lnTo>
                  <a:pt x="92802" y="0"/>
                </a:lnTo>
                <a:lnTo>
                  <a:pt x="92802" y="21600"/>
                </a:lnTo>
                <a:lnTo>
                  <a:pt x="0" y="21600"/>
                </a:lnTo>
                <a:close/>
              </a:path>
              <a:path fill="lightenLess" w="92802" h="21600">
                <a:moveTo>
                  <a:pt x="0" y="0"/>
                </a:moveTo>
                <a:lnTo>
                  <a:pt x="92802" y="0"/>
                </a:lnTo>
                <a:lnTo>
                  <a:pt x="91402" y="1400"/>
                </a:lnTo>
                <a:lnTo>
                  <a:pt x="1400" y="1400"/>
                </a:lnTo>
                <a:close/>
              </a:path>
              <a:path fill="darken" w="92802" h="21600">
                <a:moveTo>
                  <a:pt x="92802" y="0"/>
                </a:moveTo>
                <a:lnTo>
                  <a:pt x="92802" y="21600"/>
                </a:lnTo>
                <a:lnTo>
                  <a:pt x="91402" y="20200"/>
                </a:lnTo>
                <a:lnTo>
                  <a:pt x="91402" y="1400"/>
                </a:lnTo>
                <a:close/>
              </a:path>
              <a:path fill="darkenLess" w="92802" h="21600">
                <a:moveTo>
                  <a:pt x="92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02" y="20200"/>
                </a:lnTo>
                <a:close/>
              </a:path>
              <a:path fill="lighten" w="92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802" h="21600">
                <a:moveTo>
                  <a:pt x="39395" y="3794"/>
                </a:moveTo>
                <a:lnTo>
                  <a:pt x="53408" y="10800"/>
                </a:lnTo>
                <a:lnTo>
                  <a:pt x="3939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5" action="ppaction://hlinksldjump"/>
          </p:cNvPr>
          <p:cNvSpPr/>
          <p:nvPr/>
        </p:nvSpPr>
        <p:spPr>
          <a:xfrm>
            <a:off x="2736720" y="613080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4392720" y="6202440"/>
            <a:ext cx="1690560" cy="331560"/>
          </a:xfrm>
          <a:custGeom>
            <a:avLst/>
            <a:gdLst>
              <a:gd name="textAreaLeft" fmla="*/ 21240 w 1690560"/>
              <a:gd name="textAreaRight" fmla="*/ 1669320 w 1690560"/>
              <a:gd name="textAreaTop" fmla="*/ 21240 h 331560"/>
              <a:gd name="textAreaBottom" fmla="*/ 310320 h 331560"/>
            </a:gdLst>
            <a:ahLst/>
            <a:rect l="textAreaLeft" t="textAreaTop" r="textAreaRight" b="textAreaBottom"/>
            <a:pathLst>
              <a:path w="110038" h="21600">
                <a:moveTo>
                  <a:pt x="0" y="0"/>
                </a:moveTo>
                <a:lnTo>
                  <a:pt x="110038" y="0"/>
                </a:lnTo>
                <a:lnTo>
                  <a:pt x="110038" y="21600"/>
                </a:lnTo>
                <a:lnTo>
                  <a:pt x="0" y="21600"/>
                </a:lnTo>
                <a:close/>
              </a:path>
              <a:path fill="lightenLess" w="110038" h="21600">
                <a:moveTo>
                  <a:pt x="0" y="0"/>
                </a:moveTo>
                <a:lnTo>
                  <a:pt x="110038" y="0"/>
                </a:lnTo>
                <a:lnTo>
                  <a:pt x="108638" y="1400"/>
                </a:lnTo>
                <a:lnTo>
                  <a:pt x="1400" y="1400"/>
                </a:lnTo>
                <a:close/>
              </a:path>
              <a:path fill="darken" w="110038" h="21600">
                <a:moveTo>
                  <a:pt x="110038" y="0"/>
                </a:moveTo>
                <a:lnTo>
                  <a:pt x="110038" y="21600"/>
                </a:lnTo>
                <a:lnTo>
                  <a:pt x="108638" y="20200"/>
                </a:lnTo>
                <a:lnTo>
                  <a:pt x="108638" y="1400"/>
                </a:lnTo>
                <a:close/>
              </a:path>
              <a:path fill="darkenLess" w="110038" h="21600">
                <a:moveTo>
                  <a:pt x="110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638" y="20200"/>
                </a:lnTo>
                <a:close/>
              </a:path>
              <a:path fill="lighten" w="110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0038" h="21600">
                <a:moveTo>
                  <a:pt x="48013" y="10800"/>
                </a:moveTo>
                <a:lnTo>
                  <a:pt x="62026" y="3794"/>
                </a:lnTo>
                <a:lnTo>
                  <a:pt x="620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002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 the Author Detective Tas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where you will record important information you f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ter, you will use this information to create a po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Author Detective Task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Click on an author’s name to begin your detective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av Pilkey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ngela Johnson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ynthia Ryl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eggy Rathman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ary Soto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Use your completed Author Detective Task Sheet to create a poster that will inform others about this author’s life. Check out the evaluation section to see what you need on your po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67640" y="5553000"/>
            <a:ext cx="39672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0" y="3537000"/>
            <a:ext cx="1584360" cy="395280"/>
          </a:xfrm>
          <a:custGeom>
            <a:avLst/>
            <a:gdLst>
              <a:gd name="textAreaLeft" fmla="*/ 25560 w 1584360"/>
              <a:gd name="textAreaRight" fmla="*/ 1558800 w 1584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86518" h="21600">
                <a:moveTo>
                  <a:pt x="0" y="0"/>
                </a:moveTo>
                <a:lnTo>
                  <a:pt x="86518" y="0"/>
                </a:lnTo>
                <a:lnTo>
                  <a:pt x="86518" y="21600"/>
                </a:lnTo>
                <a:lnTo>
                  <a:pt x="0" y="21600"/>
                </a:lnTo>
                <a:close/>
              </a:path>
              <a:path fill="lightenLess" w="86518" h="21600">
                <a:moveTo>
                  <a:pt x="0" y="0"/>
                </a:moveTo>
                <a:lnTo>
                  <a:pt x="86518" y="0"/>
                </a:lnTo>
                <a:lnTo>
                  <a:pt x="85118" y="1400"/>
                </a:lnTo>
                <a:lnTo>
                  <a:pt x="1400" y="1400"/>
                </a:lnTo>
                <a:close/>
              </a:path>
              <a:path fill="darken" w="86518" h="21600">
                <a:moveTo>
                  <a:pt x="86518" y="0"/>
                </a:moveTo>
                <a:lnTo>
                  <a:pt x="86518" y="21600"/>
                </a:lnTo>
                <a:lnTo>
                  <a:pt x="85118" y="20200"/>
                </a:lnTo>
                <a:lnTo>
                  <a:pt x="85118" y="1400"/>
                </a:lnTo>
                <a:close/>
              </a:path>
              <a:path fill="darkenLess" w="86518" h="21600">
                <a:moveTo>
                  <a:pt x="8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18" y="20200"/>
                </a:lnTo>
                <a:close/>
              </a:path>
              <a:path fill="lighten" w="8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18" h="21600">
                <a:moveTo>
                  <a:pt x="36252" y="3794"/>
                </a:moveTo>
                <a:lnTo>
                  <a:pt x="50265" y="10800"/>
                </a:lnTo>
                <a:lnTo>
                  <a:pt x="362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9" action="ppaction://hlinksldjump"/>
          </p:cNvPr>
          <p:cNvSpPr/>
          <p:nvPr/>
        </p:nvSpPr>
        <p:spPr>
          <a:xfrm>
            <a:off x="2700360" y="3537000"/>
            <a:ext cx="2484360" cy="504720"/>
          </a:xfrm>
          <a:custGeom>
            <a:avLst/>
            <a:gdLst>
              <a:gd name="textAreaLeft" fmla="*/ 32400 w 2484360"/>
              <a:gd name="textAreaRight" fmla="*/ 2451960 w 2484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6260" h="21600">
                <a:moveTo>
                  <a:pt x="0" y="0"/>
                </a:moveTo>
                <a:lnTo>
                  <a:pt x="106260" y="0"/>
                </a:lnTo>
                <a:lnTo>
                  <a:pt x="106260" y="21600"/>
                </a:lnTo>
                <a:lnTo>
                  <a:pt x="0" y="21600"/>
                </a:lnTo>
                <a:close/>
              </a:path>
              <a:path fill="lightenLess" w="106260" h="21600">
                <a:moveTo>
                  <a:pt x="0" y="0"/>
                </a:moveTo>
                <a:lnTo>
                  <a:pt x="106260" y="0"/>
                </a:lnTo>
                <a:lnTo>
                  <a:pt x="104860" y="1400"/>
                </a:lnTo>
                <a:lnTo>
                  <a:pt x="1400" y="1400"/>
                </a:lnTo>
                <a:close/>
              </a:path>
              <a:path fill="darken" w="106260" h="21600">
                <a:moveTo>
                  <a:pt x="106260" y="0"/>
                </a:moveTo>
                <a:lnTo>
                  <a:pt x="106260" y="21600"/>
                </a:lnTo>
                <a:lnTo>
                  <a:pt x="104860" y="20200"/>
                </a:lnTo>
                <a:lnTo>
                  <a:pt x="104860" y="1400"/>
                </a:lnTo>
                <a:close/>
              </a:path>
              <a:path fill="darkenLess" w="106260" h="21600">
                <a:moveTo>
                  <a:pt x="106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860" y="20200"/>
                </a:lnTo>
                <a:close/>
              </a:path>
              <a:path fill="lighten" w="106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260" h="21600">
                <a:moveTo>
                  <a:pt x="46124" y="3794"/>
                </a:moveTo>
                <a:lnTo>
                  <a:pt x="60137" y="10800"/>
                </a:lnTo>
                <a:lnTo>
                  <a:pt x="461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6372360" y="3500280"/>
            <a:ext cx="2233440" cy="43200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97" h="21600">
                <a:moveTo>
                  <a:pt x="0" y="0"/>
                </a:moveTo>
                <a:lnTo>
                  <a:pt x="111597" y="0"/>
                </a:lnTo>
                <a:lnTo>
                  <a:pt x="111597" y="21600"/>
                </a:lnTo>
                <a:lnTo>
                  <a:pt x="0" y="21600"/>
                </a:lnTo>
                <a:close/>
              </a:path>
              <a:path fill="lightenLess" w="111597" h="21600">
                <a:moveTo>
                  <a:pt x="0" y="0"/>
                </a:moveTo>
                <a:lnTo>
                  <a:pt x="111597" y="0"/>
                </a:lnTo>
                <a:lnTo>
                  <a:pt x="110197" y="1400"/>
                </a:lnTo>
                <a:lnTo>
                  <a:pt x="1400" y="1400"/>
                </a:lnTo>
                <a:close/>
              </a:path>
              <a:path fill="darken" w="111597" h="21600">
                <a:moveTo>
                  <a:pt x="111597" y="0"/>
                </a:moveTo>
                <a:lnTo>
                  <a:pt x="111597" y="21600"/>
                </a:lnTo>
                <a:lnTo>
                  <a:pt x="110197" y="20200"/>
                </a:lnTo>
                <a:lnTo>
                  <a:pt x="110197" y="1400"/>
                </a:lnTo>
                <a:close/>
              </a:path>
              <a:path fill="darkenLess" w="111597" h="21600">
                <a:moveTo>
                  <a:pt x="111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97" y="20200"/>
                </a:lnTo>
                <a:close/>
              </a:path>
              <a:path fill="lighten" w="111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97" h="21600">
                <a:moveTo>
                  <a:pt x="48792" y="3794"/>
                </a:moveTo>
                <a:lnTo>
                  <a:pt x="62805" y="10800"/>
                </a:lnTo>
                <a:lnTo>
                  <a:pt x="48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1" action="ppaction://hlinksldjump"/>
          </p:cNvPr>
          <p:cNvSpPr/>
          <p:nvPr/>
        </p:nvSpPr>
        <p:spPr>
          <a:xfrm>
            <a:off x="4464000" y="4005360"/>
            <a:ext cx="2340000" cy="433440"/>
          </a:xfrm>
          <a:custGeom>
            <a:avLst/>
            <a:gdLst>
              <a:gd name="textAreaLeft" fmla="*/ 28080 w 2340000"/>
              <a:gd name="textAreaRight" fmla="*/ 2311920 w 23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6532" h="21600">
                <a:moveTo>
                  <a:pt x="0" y="0"/>
                </a:moveTo>
                <a:lnTo>
                  <a:pt x="116532" y="0"/>
                </a:lnTo>
                <a:lnTo>
                  <a:pt x="116532" y="21600"/>
                </a:lnTo>
                <a:lnTo>
                  <a:pt x="0" y="21600"/>
                </a:lnTo>
                <a:close/>
              </a:path>
              <a:path fill="lightenLess" w="116532" h="21600">
                <a:moveTo>
                  <a:pt x="0" y="0"/>
                </a:moveTo>
                <a:lnTo>
                  <a:pt x="116532" y="0"/>
                </a:lnTo>
                <a:lnTo>
                  <a:pt x="115132" y="1400"/>
                </a:lnTo>
                <a:lnTo>
                  <a:pt x="1400" y="1400"/>
                </a:lnTo>
                <a:close/>
              </a:path>
              <a:path fill="darken" w="116532" h="21600">
                <a:moveTo>
                  <a:pt x="116532" y="0"/>
                </a:moveTo>
                <a:lnTo>
                  <a:pt x="116532" y="21600"/>
                </a:lnTo>
                <a:lnTo>
                  <a:pt x="115132" y="20200"/>
                </a:lnTo>
                <a:lnTo>
                  <a:pt x="115132" y="1400"/>
                </a:lnTo>
                <a:close/>
              </a:path>
              <a:path fill="darkenLess" w="116532" h="21600">
                <a:moveTo>
                  <a:pt x="116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32" y="20200"/>
                </a:lnTo>
                <a:close/>
              </a:path>
              <a:path fill="lighten" w="116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6532" h="21600">
                <a:moveTo>
                  <a:pt x="51260" y="3794"/>
                </a:moveTo>
                <a:lnTo>
                  <a:pt x="65273" y="10800"/>
                </a:lnTo>
                <a:lnTo>
                  <a:pt x="5126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9280" y="4005360"/>
            <a:ext cx="2700360" cy="431640"/>
          </a:xfrm>
          <a:custGeom>
            <a:avLst/>
            <a:gdLst>
              <a:gd name="textAreaLeft" fmla="*/ 27720 w 2700360"/>
              <a:gd name="textAreaRight" fmla="*/ 2672640 w 27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5036" h="21600">
                <a:moveTo>
                  <a:pt x="0" y="0"/>
                </a:moveTo>
                <a:lnTo>
                  <a:pt x="135036" y="0"/>
                </a:lnTo>
                <a:lnTo>
                  <a:pt x="135036" y="21600"/>
                </a:lnTo>
                <a:lnTo>
                  <a:pt x="0" y="21600"/>
                </a:lnTo>
                <a:close/>
              </a:path>
              <a:path fill="lightenLess" w="135036" h="21600">
                <a:moveTo>
                  <a:pt x="0" y="0"/>
                </a:moveTo>
                <a:lnTo>
                  <a:pt x="135036" y="0"/>
                </a:lnTo>
                <a:lnTo>
                  <a:pt x="133636" y="1400"/>
                </a:lnTo>
                <a:lnTo>
                  <a:pt x="1400" y="1400"/>
                </a:lnTo>
                <a:close/>
              </a:path>
              <a:path fill="darken" w="135036" h="21600">
                <a:moveTo>
                  <a:pt x="135036" y="0"/>
                </a:moveTo>
                <a:lnTo>
                  <a:pt x="135036" y="21600"/>
                </a:lnTo>
                <a:lnTo>
                  <a:pt x="133636" y="20200"/>
                </a:lnTo>
                <a:lnTo>
                  <a:pt x="133636" y="1400"/>
                </a:lnTo>
                <a:close/>
              </a:path>
              <a:path fill="darkenLess" w="135036" h="21600">
                <a:moveTo>
                  <a:pt x="135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636" y="20200"/>
                </a:lnTo>
                <a:close/>
              </a:path>
              <a:path fill="lighten" w="135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036" h="21600">
                <a:moveTo>
                  <a:pt x="60512" y="3794"/>
                </a:moveTo>
                <a:lnTo>
                  <a:pt x="74524" y="10800"/>
                </a:lnTo>
                <a:lnTo>
                  <a:pt x="605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36000" y="6308640"/>
            <a:ext cx="1618920" cy="368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630864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72000" y="630864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260280"/>
            <a:ext cx="486108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T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308640"/>
            <a:ext cx="161928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30864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50920" y="6273720"/>
            <a:ext cx="1476360" cy="360360"/>
          </a:xfrm>
          <a:custGeom>
            <a:avLst/>
            <a:gdLst>
              <a:gd name="textAreaLeft" fmla="*/ 23040 w 1476360"/>
              <a:gd name="textAreaRight" fmla="*/ 1453320 w 14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8426" h="21600">
                <a:moveTo>
                  <a:pt x="0" y="0"/>
                </a:moveTo>
                <a:lnTo>
                  <a:pt x="88426" y="0"/>
                </a:lnTo>
                <a:lnTo>
                  <a:pt x="88426" y="21600"/>
                </a:lnTo>
                <a:lnTo>
                  <a:pt x="0" y="21600"/>
                </a:lnTo>
                <a:close/>
              </a:path>
              <a:path fill="lightenLess" w="88426" h="21600">
                <a:moveTo>
                  <a:pt x="0" y="0"/>
                </a:moveTo>
                <a:lnTo>
                  <a:pt x="88426" y="0"/>
                </a:lnTo>
                <a:lnTo>
                  <a:pt x="87026" y="1400"/>
                </a:lnTo>
                <a:lnTo>
                  <a:pt x="1400" y="1400"/>
                </a:lnTo>
                <a:close/>
              </a:path>
              <a:path fill="darken" w="88426" h="21600">
                <a:moveTo>
                  <a:pt x="88426" y="0"/>
                </a:moveTo>
                <a:lnTo>
                  <a:pt x="88426" y="21600"/>
                </a:lnTo>
                <a:lnTo>
                  <a:pt x="87026" y="20200"/>
                </a:lnTo>
                <a:lnTo>
                  <a:pt x="87026" y="1400"/>
                </a:lnTo>
                <a:close/>
              </a:path>
              <a:path fill="darkenLess" w="88426" h="21600">
                <a:moveTo>
                  <a:pt x="88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6" y="20200"/>
                </a:lnTo>
                <a:close/>
              </a:path>
              <a:path fill="lighten" w="88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6" h="21600">
                <a:moveTo>
                  <a:pt x="37207" y="3794"/>
                </a:moveTo>
                <a:lnTo>
                  <a:pt x="51220" y="10800"/>
                </a:lnTo>
                <a:lnTo>
                  <a:pt x="37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016000" y="627372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3635280" y="6308640"/>
            <a:ext cx="1690920" cy="331920"/>
          </a:xfrm>
          <a:custGeom>
            <a:avLst/>
            <a:gdLst>
              <a:gd name="textAreaLeft" fmla="*/ 21240 w 1690920"/>
              <a:gd name="textAreaRight" fmla="*/ 1669680 w 169092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109942" h="21600">
                <a:moveTo>
                  <a:pt x="0" y="0"/>
                </a:moveTo>
                <a:lnTo>
                  <a:pt x="109942" y="0"/>
                </a:lnTo>
                <a:lnTo>
                  <a:pt x="109942" y="21600"/>
                </a:lnTo>
                <a:lnTo>
                  <a:pt x="0" y="21600"/>
                </a:lnTo>
                <a:close/>
              </a:path>
              <a:path fill="lightenLess" w="109942" h="21600">
                <a:moveTo>
                  <a:pt x="0" y="0"/>
                </a:moveTo>
                <a:lnTo>
                  <a:pt x="109942" y="0"/>
                </a:lnTo>
                <a:lnTo>
                  <a:pt x="108542" y="1400"/>
                </a:lnTo>
                <a:lnTo>
                  <a:pt x="1400" y="1400"/>
                </a:lnTo>
                <a:close/>
              </a:path>
              <a:path fill="darken" w="109942" h="21600">
                <a:moveTo>
                  <a:pt x="109942" y="0"/>
                </a:moveTo>
                <a:lnTo>
                  <a:pt x="109942" y="21600"/>
                </a:lnTo>
                <a:lnTo>
                  <a:pt x="108542" y="20200"/>
                </a:lnTo>
                <a:lnTo>
                  <a:pt x="108542" y="1400"/>
                </a:lnTo>
                <a:close/>
              </a:path>
              <a:path fill="darkenLess" w="109942" h="21600">
                <a:moveTo>
                  <a:pt x="10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542" y="20200"/>
                </a:lnTo>
                <a:close/>
              </a:path>
              <a:path fill="lighten" w="10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942" h="21600">
                <a:moveTo>
                  <a:pt x="47965" y="10800"/>
                </a:moveTo>
                <a:lnTo>
                  <a:pt x="61978" y="3794"/>
                </a:lnTo>
                <a:lnTo>
                  <a:pt x="619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5400720" y="627372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7201080" y="6345360"/>
            <a:ext cx="1692000" cy="323640"/>
          </a:xfrm>
          <a:custGeom>
            <a:avLst/>
            <a:gdLst>
              <a:gd name="textAreaLeft" fmla="*/ 20880 w 1692000"/>
              <a:gd name="textAreaRight" fmla="*/ 1671120 w 1692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112824" h="21600">
                <a:moveTo>
                  <a:pt x="0" y="0"/>
                </a:moveTo>
                <a:lnTo>
                  <a:pt x="112824" y="0"/>
                </a:lnTo>
                <a:lnTo>
                  <a:pt x="112824" y="21600"/>
                </a:lnTo>
                <a:lnTo>
                  <a:pt x="0" y="21600"/>
                </a:lnTo>
                <a:close/>
              </a:path>
              <a:path fill="lightenLess" w="112824" h="21600">
                <a:moveTo>
                  <a:pt x="0" y="0"/>
                </a:moveTo>
                <a:lnTo>
                  <a:pt x="112824" y="0"/>
                </a:lnTo>
                <a:lnTo>
                  <a:pt x="111424" y="1400"/>
                </a:lnTo>
                <a:lnTo>
                  <a:pt x="1400" y="1400"/>
                </a:lnTo>
                <a:close/>
              </a:path>
              <a:path fill="darken" w="112824" h="21600">
                <a:moveTo>
                  <a:pt x="112824" y="0"/>
                </a:moveTo>
                <a:lnTo>
                  <a:pt x="112824" y="21600"/>
                </a:lnTo>
                <a:lnTo>
                  <a:pt x="111424" y="20200"/>
                </a:lnTo>
                <a:lnTo>
                  <a:pt x="111424" y="1400"/>
                </a:lnTo>
                <a:close/>
              </a:path>
              <a:path fill="darkenLess" w="112824" h="21600">
                <a:moveTo>
                  <a:pt x="11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424" y="20200"/>
                </a:lnTo>
                <a:close/>
              </a:path>
              <a:path fill="lighten" w="11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2824" h="21600">
                <a:moveTo>
                  <a:pt x="49406" y="3794"/>
                </a:moveTo>
                <a:lnTo>
                  <a:pt x="63418" y="10800"/>
                </a:lnTo>
                <a:lnTo>
                  <a:pt x="49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052640"/>
            <a:ext cx="824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completed poster should have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facts from your Author Detective Tas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illustrations with ca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complete sent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mistakes in spelling, capitalization, and punc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e is the rubric that will be used to grade your poster. Take a look at it  to be sure you have included everyth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Ru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you are finished your poster, click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12000" y="5842080"/>
            <a:ext cx="50472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728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6000" y="6308640"/>
            <a:ext cx="1618920" cy="368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000" y="630864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630864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9640" y="333360"/>
            <a:ext cx="4897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3280" y="6308640"/>
            <a:ext cx="161892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30864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201080" y="6345360"/>
            <a:ext cx="1692000" cy="323640"/>
          </a:xfrm>
          <a:custGeom>
            <a:avLst/>
            <a:gdLst>
              <a:gd name="textAreaLeft" fmla="*/ 20880 w 1692000"/>
              <a:gd name="textAreaRight" fmla="*/ 1671120 w 1692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112824" h="21600">
                <a:moveTo>
                  <a:pt x="0" y="0"/>
                </a:moveTo>
                <a:lnTo>
                  <a:pt x="112824" y="0"/>
                </a:lnTo>
                <a:lnTo>
                  <a:pt x="112824" y="21600"/>
                </a:lnTo>
                <a:lnTo>
                  <a:pt x="0" y="21600"/>
                </a:lnTo>
                <a:close/>
              </a:path>
              <a:path fill="lightenLess" w="112824" h="21600">
                <a:moveTo>
                  <a:pt x="0" y="0"/>
                </a:moveTo>
                <a:lnTo>
                  <a:pt x="112824" y="0"/>
                </a:lnTo>
                <a:lnTo>
                  <a:pt x="111424" y="1400"/>
                </a:lnTo>
                <a:lnTo>
                  <a:pt x="1400" y="1400"/>
                </a:lnTo>
                <a:close/>
              </a:path>
              <a:path fill="darken" w="112824" h="21600">
                <a:moveTo>
                  <a:pt x="112824" y="0"/>
                </a:moveTo>
                <a:lnTo>
                  <a:pt x="112824" y="21600"/>
                </a:lnTo>
                <a:lnTo>
                  <a:pt x="111424" y="20200"/>
                </a:lnTo>
                <a:lnTo>
                  <a:pt x="111424" y="1400"/>
                </a:lnTo>
                <a:close/>
              </a:path>
              <a:path fill="darkenLess" w="112824" h="21600">
                <a:moveTo>
                  <a:pt x="11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424" y="20200"/>
                </a:lnTo>
                <a:close/>
              </a:path>
              <a:path fill="lighten" w="11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2824" h="21600">
                <a:moveTo>
                  <a:pt x="49406" y="3794"/>
                </a:moveTo>
                <a:lnTo>
                  <a:pt x="63418" y="10800"/>
                </a:lnTo>
                <a:lnTo>
                  <a:pt x="49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250920" y="6273720"/>
            <a:ext cx="1476360" cy="360360"/>
          </a:xfrm>
          <a:custGeom>
            <a:avLst/>
            <a:gdLst>
              <a:gd name="textAreaLeft" fmla="*/ 23040 w 1476360"/>
              <a:gd name="textAreaRight" fmla="*/ 1453320 w 14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8426" h="21600">
                <a:moveTo>
                  <a:pt x="0" y="0"/>
                </a:moveTo>
                <a:lnTo>
                  <a:pt x="88426" y="0"/>
                </a:lnTo>
                <a:lnTo>
                  <a:pt x="88426" y="21600"/>
                </a:lnTo>
                <a:lnTo>
                  <a:pt x="0" y="21600"/>
                </a:lnTo>
                <a:close/>
              </a:path>
              <a:path fill="lightenLess" w="88426" h="21600">
                <a:moveTo>
                  <a:pt x="0" y="0"/>
                </a:moveTo>
                <a:lnTo>
                  <a:pt x="88426" y="0"/>
                </a:lnTo>
                <a:lnTo>
                  <a:pt x="87026" y="1400"/>
                </a:lnTo>
                <a:lnTo>
                  <a:pt x="1400" y="1400"/>
                </a:lnTo>
                <a:close/>
              </a:path>
              <a:path fill="darken" w="88426" h="21600">
                <a:moveTo>
                  <a:pt x="88426" y="0"/>
                </a:moveTo>
                <a:lnTo>
                  <a:pt x="88426" y="21600"/>
                </a:lnTo>
                <a:lnTo>
                  <a:pt x="87026" y="20200"/>
                </a:lnTo>
                <a:lnTo>
                  <a:pt x="87026" y="1400"/>
                </a:lnTo>
                <a:close/>
              </a:path>
              <a:path fill="darkenLess" w="88426" h="21600">
                <a:moveTo>
                  <a:pt x="88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6" y="20200"/>
                </a:lnTo>
                <a:close/>
              </a:path>
              <a:path fill="lighten" w="88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6" h="21600">
                <a:moveTo>
                  <a:pt x="37207" y="3794"/>
                </a:moveTo>
                <a:lnTo>
                  <a:pt x="51220" y="10800"/>
                </a:lnTo>
                <a:lnTo>
                  <a:pt x="37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2016000" y="627372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3635280" y="6308640"/>
            <a:ext cx="1690920" cy="331920"/>
          </a:xfrm>
          <a:custGeom>
            <a:avLst/>
            <a:gdLst>
              <a:gd name="textAreaLeft" fmla="*/ 21240 w 1690920"/>
              <a:gd name="textAreaRight" fmla="*/ 1669680 w 169092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109942" h="21600">
                <a:moveTo>
                  <a:pt x="0" y="0"/>
                </a:moveTo>
                <a:lnTo>
                  <a:pt x="109942" y="0"/>
                </a:lnTo>
                <a:lnTo>
                  <a:pt x="109942" y="21600"/>
                </a:lnTo>
                <a:lnTo>
                  <a:pt x="0" y="21600"/>
                </a:lnTo>
                <a:close/>
              </a:path>
              <a:path fill="lightenLess" w="109942" h="21600">
                <a:moveTo>
                  <a:pt x="0" y="0"/>
                </a:moveTo>
                <a:lnTo>
                  <a:pt x="109942" y="0"/>
                </a:lnTo>
                <a:lnTo>
                  <a:pt x="108542" y="1400"/>
                </a:lnTo>
                <a:lnTo>
                  <a:pt x="1400" y="1400"/>
                </a:lnTo>
                <a:close/>
              </a:path>
              <a:path fill="darken" w="109942" h="21600">
                <a:moveTo>
                  <a:pt x="109942" y="0"/>
                </a:moveTo>
                <a:lnTo>
                  <a:pt x="109942" y="21600"/>
                </a:lnTo>
                <a:lnTo>
                  <a:pt x="108542" y="20200"/>
                </a:lnTo>
                <a:lnTo>
                  <a:pt x="108542" y="1400"/>
                </a:lnTo>
                <a:close/>
              </a:path>
              <a:path fill="darkenLess" w="109942" h="21600">
                <a:moveTo>
                  <a:pt x="10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542" y="20200"/>
                </a:lnTo>
                <a:close/>
              </a:path>
              <a:path fill="lighten" w="10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942" h="21600">
                <a:moveTo>
                  <a:pt x="47965" y="10800"/>
                </a:moveTo>
                <a:lnTo>
                  <a:pt x="61978" y="3794"/>
                </a:lnTo>
                <a:lnTo>
                  <a:pt x="619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5400720" y="627372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125360"/>
            <a:ext cx="79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gratul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completed this Author Investigation WebQuest. I hope you had fun learning about a great children’s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next step could be to search the web on your own to find information about other auth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e are some other favor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Park (Junie B. J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. L. Stine (Goosebu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ic Car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236000" y="3860640"/>
            <a:ext cx="1333440" cy="119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rcRect l="-3965" t="0" r="5882" b="-10208"/>
          <a:stretch/>
        </p:blipFill>
        <p:spPr>
          <a:xfrm>
            <a:off x="6840360" y="0"/>
            <a:ext cx="165600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6058080"/>
            <a:ext cx="2449440" cy="502920"/>
          </a:xfrm>
          <a:prstGeom prst="leftArrow">
            <a:avLst>
              <a:gd name="adj1" fmla="val 50000"/>
              <a:gd name="adj2" fmla="val 12176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 Pil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Dav Pilkey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iew from Reading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16000" y="6058080"/>
            <a:ext cx="2700360" cy="468000"/>
          </a:xfrm>
          <a:custGeom>
            <a:avLst/>
            <a:gdLst>
              <a:gd name="textAreaLeft" fmla="*/ 30240 w 2700360"/>
              <a:gd name="textAreaRight" fmla="*/ 2670120 w 270036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4553" h="21600">
                <a:moveTo>
                  <a:pt x="0" y="0"/>
                </a:moveTo>
                <a:lnTo>
                  <a:pt x="124553" y="0"/>
                </a:lnTo>
                <a:lnTo>
                  <a:pt x="124553" y="21600"/>
                </a:lnTo>
                <a:lnTo>
                  <a:pt x="0" y="21600"/>
                </a:lnTo>
                <a:close/>
              </a:path>
              <a:path fill="lightenLess" w="124553" h="21600">
                <a:moveTo>
                  <a:pt x="0" y="0"/>
                </a:moveTo>
                <a:lnTo>
                  <a:pt x="124553" y="0"/>
                </a:lnTo>
                <a:lnTo>
                  <a:pt x="123153" y="1400"/>
                </a:lnTo>
                <a:lnTo>
                  <a:pt x="1400" y="1400"/>
                </a:lnTo>
                <a:close/>
              </a:path>
              <a:path fill="darken" w="124553" h="21600">
                <a:moveTo>
                  <a:pt x="124553" y="0"/>
                </a:moveTo>
                <a:lnTo>
                  <a:pt x="124553" y="21600"/>
                </a:lnTo>
                <a:lnTo>
                  <a:pt x="123153" y="20200"/>
                </a:lnTo>
                <a:lnTo>
                  <a:pt x="123153" y="1400"/>
                </a:lnTo>
                <a:close/>
              </a:path>
              <a:path fill="darkenLess" w="124553" h="21600">
                <a:moveTo>
                  <a:pt x="124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153" y="20200"/>
                </a:lnTo>
                <a:close/>
              </a:path>
              <a:path fill="lighten" w="124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553" h="21600">
                <a:moveTo>
                  <a:pt x="55270" y="10800"/>
                </a:moveTo>
                <a:lnTo>
                  <a:pt x="69283" y="3794"/>
                </a:lnTo>
                <a:lnTo>
                  <a:pt x="6928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6058080"/>
            <a:ext cx="2376360" cy="539640"/>
          </a:xfrm>
          <a:prstGeom prst="leftArrow">
            <a:avLst>
              <a:gd name="adj1" fmla="val 50000"/>
              <a:gd name="adj2" fmla="val 11009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692280"/>
            <a:ext cx="78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a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Angela Johnson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ifornia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250920" y="6093000"/>
            <a:ext cx="2736720" cy="468000"/>
          </a:xfrm>
          <a:custGeom>
            <a:avLst/>
            <a:gdLst>
              <a:gd name="textAreaLeft" fmla="*/ 30240 w 2736720"/>
              <a:gd name="textAreaRight" fmla="*/ 2706480 w 2736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6230" h="21600">
                <a:moveTo>
                  <a:pt x="0" y="0"/>
                </a:moveTo>
                <a:lnTo>
                  <a:pt x="126230" y="0"/>
                </a:lnTo>
                <a:lnTo>
                  <a:pt x="126230" y="21600"/>
                </a:lnTo>
                <a:lnTo>
                  <a:pt x="0" y="21600"/>
                </a:lnTo>
                <a:close/>
              </a:path>
              <a:path fill="lightenLess" w="126230" h="21600">
                <a:moveTo>
                  <a:pt x="0" y="0"/>
                </a:moveTo>
                <a:lnTo>
                  <a:pt x="126230" y="0"/>
                </a:lnTo>
                <a:lnTo>
                  <a:pt x="124830" y="1400"/>
                </a:lnTo>
                <a:lnTo>
                  <a:pt x="1400" y="1400"/>
                </a:lnTo>
                <a:close/>
              </a:path>
              <a:path fill="darken" w="126230" h="21600">
                <a:moveTo>
                  <a:pt x="126230" y="0"/>
                </a:moveTo>
                <a:lnTo>
                  <a:pt x="126230" y="21600"/>
                </a:lnTo>
                <a:lnTo>
                  <a:pt x="124830" y="20200"/>
                </a:lnTo>
                <a:lnTo>
                  <a:pt x="124830" y="1400"/>
                </a:lnTo>
                <a:close/>
              </a:path>
              <a:path fill="darkenLess" w="126230" h="21600">
                <a:moveTo>
                  <a:pt x="126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830" y="20200"/>
                </a:lnTo>
                <a:close/>
              </a:path>
              <a:path fill="lighten" w="126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230" h="21600">
                <a:moveTo>
                  <a:pt x="56108" y="10800"/>
                </a:moveTo>
                <a:lnTo>
                  <a:pt x="70121" y="3794"/>
                </a:lnTo>
                <a:lnTo>
                  <a:pt x="7012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058080"/>
            <a:ext cx="2341440" cy="574560"/>
          </a:xfrm>
          <a:prstGeom prst="leftArrow">
            <a:avLst>
              <a:gd name="adj1" fmla="val 50000"/>
              <a:gd name="adj2" fmla="val 1018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216000" y="6093000"/>
            <a:ext cx="2592360" cy="468000"/>
          </a:xfrm>
          <a:custGeom>
            <a:avLst/>
            <a:gdLst>
              <a:gd name="textAreaLeft" fmla="*/ 30240 w 2592360"/>
              <a:gd name="textAreaRight" fmla="*/ 2562120 w 259236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19572" h="21600">
                <a:moveTo>
                  <a:pt x="0" y="0"/>
                </a:moveTo>
                <a:lnTo>
                  <a:pt x="119572" y="0"/>
                </a:lnTo>
                <a:lnTo>
                  <a:pt x="119572" y="21600"/>
                </a:lnTo>
                <a:lnTo>
                  <a:pt x="0" y="21600"/>
                </a:lnTo>
                <a:close/>
              </a:path>
              <a:path fill="lightenLess" w="119572" h="21600">
                <a:moveTo>
                  <a:pt x="0" y="0"/>
                </a:moveTo>
                <a:lnTo>
                  <a:pt x="119572" y="0"/>
                </a:lnTo>
                <a:lnTo>
                  <a:pt x="118172" y="1400"/>
                </a:lnTo>
                <a:lnTo>
                  <a:pt x="1400" y="1400"/>
                </a:lnTo>
                <a:close/>
              </a:path>
              <a:path fill="darken" w="119572" h="21600">
                <a:moveTo>
                  <a:pt x="119572" y="0"/>
                </a:moveTo>
                <a:lnTo>
                  <a:pt x="119572" y="21600"/>
                </a:lnTo>
                <a:lnTo>
                  <a:pt x="118172" y="20200"/>
                </a:lnTo>
                <a:lnTo>
                  <a:pt x="118172" y="1400"/>
                </a:lnTo>
                <a:close/>
              </a:path>
              <a:path fill="darkenLess" w="119572" h="21600">
                <a:moveTo>
                  <a:pt x="119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172" y="20200"/>
                </a:lnTo>
                <a:close/>
              </a:path>
              <a:path fill="lighten" w="119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9572" h="21600">
                <a:moveTo>
                  <a:pt x="52780" y="10800"/>
                </a:moveTo>
                <a:lnTo>
                  <a:pt x="66792" y="3794"/>
                </a:lnTo>
                <a:lnTo>
                  <a:pt x="66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nthia Ry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Cynthia Rylant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tlight on Cynthia Ry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ve</cp:lastModifiedBy>
  <dcterms:modified xsi:type="dcterms:W3CDTF">2010-04-11T15:04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